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39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8.png" ContentType="image/png"/>
  <Override PartName="/ppt/media/image8.png" ContentType="image/png"/>
  <Override PartName="/ppt/media/image4.png" ContentType="image/png"/>
  <Override PartName="/ppt/media/image3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DB1A-527A-41BF-BD9D-152AAC4B2A99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BC84-C0F4-4ADF-92FC-B3E87B5306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469D-1EEB-4114-9198-653BC55D76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8859-D016-40B0-97D8-26A1B472D9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21C6-3B69-4074-8FC3-A30E1F700A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3B2C-5576-40D6-A339-C613C37563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18E-619B-4C7A-9B12-7E86AFB7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D32-5F20-4FB1-8A00-EA745F82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447-D0F7-4D16-8FBA-D76FC893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DE77-1541-4CF3-8965-9C31212C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D1C1-449B-4C13-AF41-73FA5152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A974-996A-451A-A25C-52BB28B3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6878-FE2E-4FAC-8EBA-700B16D1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C188-2D84-4525-B2BE-5F773594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389F-B798-4D0E-B9DB-E633581E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73AF-EEEE-4CAA-8846-2ABFDFAC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5479-BB5C-44DF-9B9F-8BD94CF6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B0E-6C0C-44E1-948D-0199C817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8AEA-CC12-478B-861B-DC0542D1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ACE6-ABA7-4554-B964-8840A0FD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4D75-00E5-4AF6-A913-5627061E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0949-6452-4F15-94BB-21B09116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8E63-04DA-419A-B057-82B5B36A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AB8E5-770B-4BF5-BA76-C26A3084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927F-E4BC-4086-B67A-74F08578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1480D-B697-4D59-8E41-C6BB8267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C7FCE-41EA-4724-8D11-811D203D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7AE98-699A-47DD-8D1A-C698C9F3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EE2-A389-41B2-8C71-4952642F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0587A-5DC3-463F-B41D-DB2E3DF1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943E-72C8-4960-ABB1-B3A831AC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55814-BA5A-46B9-96B2-330990B2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E3FF-73FC-42EC-A6EA-44418145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47F05-DC2B-4B9D-8192-E83E4437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35A4E-C3EE-4BB6-A770-FF3C5762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D41A4-7D7B-43C2-B63E-3313A805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DC238-7E0D-4218-B883-585F88EE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07662-93FE-4560-8425-CA0185F9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66938-B199-47A2-8B90-B0B228B4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243-600A-4A8D-B4A8-0E31E1FE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5859F-B139-4A03-A6EA-A92F761D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30E9A-09CA-426E-935A-F0DB77C0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03960-C1A2-4E6D-8C5A-B227FD1D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9E027-0915-420C-9003-8029A8A2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A6F46-4E59-4A2F-B6EA-34B4F695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3305E-D850-4A19-A206-D802CA9C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4FEF8-8DAD-4712-8705-41F61E3D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462FA-CA55-4C77-A500-9FA0F892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FAE3A-324E-4624-9A97-D87ED0B4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3016C-6713-4D36-A07B-BBB03181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E29-FFC5-4BF4-A53A-C8A034A5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6C515-2472-4222-894D-3F9BCD61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3F10F-5F75-48E0-9D6B-EC786854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D6C02-FBF3-4A86-8ACE-6648B662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E5F21-CF51-4460-9871-833F3894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1EFE9-405E-4DA9-A686-4D018513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74622-45AB-4405-B15E-0E5B3D1D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DCFEE-95B9-46CE-B0F5-09C31449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BB7A2-BE81-4CAF-B142-E5F79E7F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07AE3-F120-47A7-9D96-D19DC508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71655-8C60-4AD1-9A91-F594BDB8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7EE-33F4-4490-A634-DEF76F99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E7F10-A9A4-4E3F-AB9C-D2245373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8B59A-DC4D-4F37-B7C0-72213ED0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DBFEC-01D8-4EFD-962B-4F6AACE5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BFFEB-39F7-4748-82F9-80622EF6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4B0EA-07C1-4CD9-A608-671A3244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3BAA6-0A53-4D75-9C7C-7F2C4342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1EA8B-156B-4656-A040-C18D3E7B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86695-005C-4BD8-9E3C-AA3F81EC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7774B-37E6-417E-B31C-B0AA951C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21AAE-4FE2-4E6C-BDE2-A333D6BA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698-CCE9-4D7E-9709-2E382630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0B2A0-9C80-4CED-BBC5-3FFA8665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0DA3E-311B-4DA2-B821-7DC107B9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8694F-C64C-417C-B61D-622F07BD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432E2-83E0-4A10-A985-8092C0E0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83BAF-446E-4679-A889-58ECAC01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19904-40E6-4D58-A931-CA69102A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241B9-EFC6-41E3-BBAB-C68A4BAD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3CDC4-4CB3-439F-925A-AC88F78C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3E391-1408-43BA-AA8A-9C22FC22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C245D-79BB-435C-B8F2-73ECA17F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E02-F958-44B7-A547-4504A530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CB765-176C-4305-B719-FECD8938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858C5-B6D2-43A2-8D4D-06C970C7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F319A-8945-4D5D-8D41-F93161A5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FD002-B384-4FC0-8C1F-6E2C700A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B052B-035D-4F40-AB3A-1BD1897A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50ADC-60FB-40B6-A960-E9854D40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04371-96FA-4D59-AE02-9E278495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5A2DC-0105-426C-93A4-003B2E70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7C22C-601A-4FE9-9B07-726D65F6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CA8BE-F3B4-4F1E-BE1A-31E2988C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A62-040E-4069-956D-69BE7B1D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02991-E720-46BB-8014-632BB63E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9A22E-A389-45C0-B179-413D8207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CDEAD-63FF-4492-9CE1-30A896AD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74400-4E2C-425E-BA21-3B4E7D1E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1C527-033A-436C-93CD-346DC92E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B6912-5897-422E-9978-53A528FA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F99A6-C069-4A72-9F8C-3D226293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Serbest Form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Serbest Form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Dik Üçgen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Dik Üçgen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Düz Bağlayıcı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F10D-C3EE-4D28-A279-BDBCD20A78C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9 Dik Üçgen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 Grup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6 Serbest Form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7 Serbest Form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0 Serbest Form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10 Serbest Form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11 Düz Bağlayıcı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201C-96E0-4D32-BC02-9CBB73D30F6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Serbest Form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Serbest Form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Dik Üçgen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Dik Üçgen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Düz Bağlayıcı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6 Köşeli Çift Ayraç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7 Köşeli Çift Ayraç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8E11-0C5B-4278-80A6-7E14E6B12BF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Serbest Form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Serbest Form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Dik Üçgen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Dik Üçgen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Düz Bağlayıcı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5ECB-0692-42E6-AACF-59D6581318B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6529-B4E8-4BE3-A54B-2EBD320040C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Serbest Form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Serbest Form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Dik Üçgen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Dik Üçgen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Düz Bağlayıcı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1F20-811C-4855-8129-D17C8B3B13F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3B2B-D445-47A8-BE57-71A5AD4C3CE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7 Serbest Form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8 Serbest Form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9 Dik Üçgen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9 Dik Üçgen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0 Düz Bağlayıcı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1 Köşeli Çift Ayraç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12 Köşeli Çift Ayraç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E59C-0ECD-4E56-B769-B93E19EF86C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525240" y="1618920"/>
            <a:ext cx="8204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2060"/>
                </a:solidFill>
                <a:latin typeface="Trebuchet MS"/>
                <a:ea typeface="Arial"/>
              </a:rPr>
              <a:t>  </a:t>
            </a:r>
            <a:r>
              <a:rPr b="1" lang="en-GB" sz="3100" spc="-1" strike="noStrike">
                <a:solidFill>
                  <a:srgbClr val="002060"/>
                </a:solidFill>
                <a:latin typeface="Arial"/>
                <a:ea typeface="Arial"/>
              </a:rPr>
              <a:t>“</a:t>
            </a:r>
            <a:r>
              <a:rPr b="1" lang="tr-TR" sz="3100" spc="-1" strike="noStrike">
                <a:solidFill>
                  <a:srgbClr val="002060"/>
                </a:solidFill>
                <a:latin typeface="Arial"/>
                <a:ea typeface="Arial"/>
              </a:rPr>
              <a:t>Faydalanıcı Eğitim Notları</a:t>
            </a:r>
            <a:r>
              <a:rPr b="1" lang="en-GB" sz="3100" spc="-1" strike="noStrike">
                <a:solidFill>
                  <a:srgbClr val="002060"/>
                </a:solidFill>
                <a:latin typeface="Arial"/>
                <a:ea typeface="Arial"/>
              </a:rPr>
              <a:t>” 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100" spc="-1" strike="noStrike">
                <a:solidFill>
                  <a:srgbClr val="002060"/>
                </a:solidFill>
                <a:latin typeface="Arial"/>
                <a:ea typeface="Arial"/>
              </a:rPr>
              <a:t>İzleme Bilgi Sistemi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100" spc="-1" strike="noStrike">
                <a:solidFill>
                  <a:srgbClr val="002060"/>
                </a:solidFill>
                <a:latin typeface="Arial"/>
                <a:ea typeface="Arial"/>
              </a:rPr>
              <a:t>Mart </a:t>
            </a:r>
            <a:r>
              <a:rPr b="1" lang="tr-TR" sz="3100" spc="-1" strike="noStrike">
                <a:solidFill>
                  <a:srgbClr val="002060"/>
                </a:solidFill>
                <a:latin typeface="Trebuchet MS"/>
                <a:ea typeface="Arial"/>
              </a:rPr>
              <a:t>201</a:t>
            </a:r>
            <a:r>
              <a:rPr b="1" lang="tr-TR" sz="3100" spc="-1" strike="noStrike">
                <a:solidFill>
                  <a:srgbClr val="002060"/>
                </a:solidFill>
                <a:latin typeface="Arial"/>
                <a:ea typeface="Arial"/>
              </a:rPr>
              <a:t>1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6840" y="5410080"/>
            <a:ext cx="4040280" cy="10922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Sol menüde yeni duyuru sayısı gösterili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44720" y="5410080"/>
            <a:ext cx="4041720" cy="10670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Lucida Sans Unicode"/>
              </a:rPr>
              <a:t>Okundu tuşuna basarak “Yeni” uyarısını kaldırabilirsiniz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395280" y="1473120"/>
            <a:ext cx="82868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64592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4 Başlık" descr=""/>
          <p:cNvPicPr/>
          <p:nvPr/>
        </p:nvPicPr>
        <p:blipFill>
          <a:blip r:embed="rId1"/>
          <a:stretch/>
        </p:blipFill>
        <p:spPr>
          <a:xfrm>
            <a:off x="2951280" y="2279520"/>
            <a:ext cx="6284880" cy="1878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64592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Georgia"/>
              </a:rPr>
              <a:t>Doldurmuş olduğunuz iki aylık beyan raporları izleme sisteminin güncel veri ihtiyacı talebini karşılayarak, sistem tarafından üretilen raporların değerini artırmaktadı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4 Başlık" descr=""/>
          <p:cNvPicPr/>
          <p:nvPr/>
        </p:nvPicPr>
        <p:blipFill>
          <a:blip r:embed="rId1"/>
          <a:stretch/>
        </p:blipFill>
        <p:spPr>
          <a:xfrm>
            <a:off x="2316240" y="334800"/>
            <a:ext cx="6132600" cy="1073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Ana Sayfanız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495360" y="1336680"/>
            <a:ext cx="4040280" cy="24811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Ana sayfanız üzerinde size doldurmanız gereken rapor olduğuna ilişkin bir uyarı yer almaktadı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Proje Genel Bilgiler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Proje Sahibinin Kimlik Bilgiler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Bütç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Faaliyetl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Performans Göstergeler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İhtiyaç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Beyan Raporuna Ekli Dosya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2"/>
          <a:stretch/>
        </p:blipFill>
        <p:spPr>
          <a:xfrm>
            <a:off x="457200" y="1616040"/>
            <a:ext cx="4040280" cy="24303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Sistem tarafından dolu olarak karşınıza gelecektir. Bu bölümde yapmanız gereken bir şey yoktur, sadece bilgilerinizin güncel olduğundan emin olunuz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457200" y="1495440"/>
            <a:ext cx="4040280" cy="24177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119"/>
              </a:buClr>
              <a:buSzPct val="5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O güne kadar yapılan toplam harcamalar girilecek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ff8119"/>
              </a:buClr>
              <a:buSzPct val="5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Ondalıklı sayı olarak girilecek (Yandaki sütunu örnek alın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Sadece bütçenizde yer alan kalemler karşınıza çıkacak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635040" y="1031760"/>
            <a:ext cx="7785000" cy="28209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761760" y="3949560"/>
            <a:ext cx="774684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k ziyarette belirlenen faaliyetlerle ilgili başlangıç ve bitiş tarihlerini gerçekleşmiş ise listeden seçiniz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781200" y="1117440"/>
            <a:ext cx="7912080" cy="23576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736560" y="3708000"/>
            <a:ext cx="77472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Lucida Sans Unicode"/>
              </a:rPr>
              <a:t>İlk ziyarette üzerinde anlaşılan performans göstergeleri bu bölümde yer alır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Lucida Sans Unicode"/>
              </a:rPr>
              <a:t>Beyan tarihine kadar bu ölçütlerin ne kadarının tamamlandığını girmelisiniz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Lucida Sans Unicode"/>
              </a:rPr>
              <a:t>Yüzde olan alanlara 0-100 arası değer girmelisiniz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Lucida Sans Unicode"/>
              </a:rPr>
              <a:t>Girdiğiniz değerler tam sayı olmalı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Lucida Sans Unicode"/>
              </a:rPr>
              <a:t>Hedeflenen “sıfır” olan alanları boş bırakabilirsiniz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5409720"/>
            <a:ext cx="753120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500040" y="985680"/>
            <a:ext cx="6810480" cy="2124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761760" y="3949560"/>
            <a:ext cx="774684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rojenizin yürütülmesi ile ilgili ihtiyaçları burada tanımlayınız. Yoksa boş bırakabilirsiniz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537840" y="1481040"/>
            <a:ext cx="8148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7fd6e7"/>
                </a:solidFill>
                <a:latin typeface="Trebuchet MS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4 Başlık" descr=""/>
          <p:cNvPicPr/>
          <p:nvPr/>
        </p:nvPicPr>
        <p:blipFill>
          <a:blip r:embed="rId1"/>
          <a:stretch/>
        </p:blipFill>
        <p:spPr>
          <a:xfrm>
            <a:off x="3670200" y="291960"/>
            <a:ext cx="4267440" cy="100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650880" y="1477800"/>
          <a:ext cx="7975440" cy="2303640"/>
        </p:xfrm>
        <a:graphic>
          <a:graphicData uri="http://schemas.openxmlformats.org/drawingml/2006/table">
            <a:tbl>
              <a:tblPr/>
              <a:tblGrid>
                <a:gridCol w="598320"/>
                <a:gridCol w="7377120"/>
              </a:tblGrid>
              <a:tr h="28764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4b78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Arial"/>
                          <a:ea typeface="Century Gothic"/>
                        </a:rPr>
                        <a:t>Tanı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4b78"/>
                    </a:solidFill>
                  </a:tcPr>
                </a:tc>
              </a:tr>
              <a:tr h="288720">
                <a:tc rowSpan="3"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4b78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  <a:ea typeface="Century Gothic"/>
                        </a:rPr>
                        <a:t>Sisteme Giri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0d6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  <a:ea typeface="Century Gothic"/>
                        </a:rPr>
                        <a:t>Kullanıcı Bilgilerinin ve Şifrenin Güncellenme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c"/>
                    </a:solidFill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Yapılacak İşler Menüs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0d6"/>
                    </a:solidFill>
                  </a:tcPr>
                </a:tc>
              </a:tr>
              <a:tr h="287280">
                <a:tc rowSpan="2"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4b78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oru Sor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c"/>
                    </a:solidFill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uyur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0d6"/>
                    </a:solidFill>
                  </a:tcPr>
                </a:tc>
              </a:tr>
              <a:tr h="287280">
                <a:tc rowSpan="2"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4b78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  <a:ea typeface="Century Gothic"/>
                        </a:rPr>
                        <a:t>2 Aylık Faydalanıcı Beyan Raporu Giriş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c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yilname ve Bildirim Formları Giriş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0d6"/>
                    </a:solidFill>
                  </a:tcPr>
                </a:tc>
              </a:tr>
            </a:tbl>
          </a:graphicData>
        </a:graphic>
      </p:graphicFrame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83876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Beyan raporunuza bağlı destekleyici dosyaları “İlgili Döküman” başlığı altında sisteme yükleyebilirsiniz. Örneğin; Faaliyetlerinizle ilgili resimler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457200" y="5409720"/>
            <a:ext cx="8369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1" i="1" lang="tr-TR" sz="2400" spc="-1" strike="noStrike" u="sng">
                <a:solidFill>
                  <a:srgbClr val="ffffff"/>
                </a:solidFill>
                <a:uFillTx/>
                <a:latin typeface="Lucida Sans Unicode"/>
              </a:rPr>
              <a:t>Çok Önemli:</a:t>
            </a:r>
            <a:r>
              <a:rPr b="1" lang="tr-TR" sz="2400" spc="-1" strike="noStrike">
                <a:solidFill>
                  <a:srgbClr val="ffffff"/>
                </a:solidFill>
                <a:latin typeface="Lucida Sans Unicode"/>
              </a:rPr>
              <a:t> Doldurulan her form mutlaka onaylanmalı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Kaydet : Girilen verileri kayded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Formu Temizle : En son yapılan değişiklikleri geri alı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Tekrar Düzenle : Rapor üzerindeki bütün alanları düzenlenebilir hale getiri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Onayla : Doldurulmuş raporu teslim eder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Çok Önemli:</a:t>
            </a:r>
            <a:r>
              <a:rPr b="1" lang="tr-TR" sz="2400" spc="-1" strike="noStrike">
                <a:solidFill>
                  <a:srgbClr val="000000"/>
                </a:solidFill>
                <a:latin typeface="Lucida Sans Unicode"/>
              </a:rPr>
              <a:t> Doldurulan her form mutlaka onaylanmalı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Title 6" descr=""/>
          <p:cNvPicPr/>
          <p:nvPr/>
        </p:nvPicPr>
        <p:blipFill>
          <a:blip r:embed="rId1"/>
          <a:stretch/>
        </p:blipFill>
        <p:spPr>
          <a:xfrm>
            <a:off x="725400" y="1060560"/>
            <a:ext cx="8253360" cy="22003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ffffff"/>
                </a:solidFill>
                <a:latin typeface="Lucida Sans Unicode"/>
              </a:rPr>
              <a:t>Sıkça Sorulan Sorula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824220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Bütçe konsolide olarak girilmelidi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Bütçe alanına gireceğiniz değer her dönem için sözleşmeyi imzaladığınız tarihten raporu doldurduğunuz dönemin başına kadar olan harcamaları kapsar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Beyan raporlarınızı iki ayda bir, ayın ilk yedi günü içerisinde (1-7 si arasında) dolduracaksınız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Sadece Gerçekleşen Faaliyetler Girilmel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Lucida Sans Unicode"/>
              </a:rPr>
              <a:t>Kullanıcı Adınız=Sözleşme Numarası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Yalnızca raporu doldurduğunuz tarihe kadar gerçekleşmiş olan faaliyetlerin ve satın almaların tarihlerini gireceksiniz. (Planladıklarınızı değil, yalnızca gerçekleşmiş tarihler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Kullanıcı adı olarak “Sözleşme Numaranızı” kullanacaksınız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Şifreniz size bildirilecekti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Title 6" descr=""/>
          <p:cNvPicPr/>
          <p:nvPr/>
        </p:nvPicPr>
        <p:blipFill>
          <a:blip r:embed="rId1"/>
          <a:stretch/>
        </p:blipFill>
        <p:spPr>
          <a:xfrm>
            <a:off x="725400" y="1060560"/>
            <a:ext cx="8266320" cy="220032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ffffff"/>
                </a:solidFill>
                <a:latin typeface="Lucida Sans Unicode"/>
              </a:rPr>
              <a:t>Nasıl yaparım?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394920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Sol Menüde, “Belgelerim”, “Değişiklikler” Bölümündeki taleplerinizin durumunu kontrol ediniz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601560" y="1263600"/>
            <a:ext cx="6086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57200" y="14806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Ana Sayfanızda “Nasıl Yaparım” bölümünü takip ederek “Bildirim Raporu”, “Zeyilname Raporu” doldurma bağlantısına tıklayınız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31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4152960"/>
            <a:ext cx="8229600" cy="18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Lucida Sans Unicode"/>
              </a:rPr>
              <a:t>Bildirim ve Zeyilname girişine göre ilgili konular listede yer almaktadır. İçlerinden uygun olanını seçtiğinizde “Açıklama Metnini” yazmanız için gerekli metin kutusu karşınıza çıkacaktır.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2"/>
          <a:stretch/>
        </p:blipFill>
        <p:spPr>
          <a:xfrm>
            <a:off x="465120" y="1711440"/>
            <a:ext cx="51357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95360" y="2921040"/>
            <a:ext cx="70228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Açıklama metnini bu alana yazıp kutucuğun altındaki “Devam Et” düğmesine tıklayını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328680" y="1455840"/>
            <a:ext cx="71150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812880" y="5829480"/>
            <a:ext cx="7734240" cy="76176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Lucida Sans Unicode"/>
              </a:rPr>
              <a:t>http://ibs.dogaka.org.t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2" descr="C:\Users\halis.yalcinkaya\Downloads\ibs_sunumu\giris.jpg"/>
          <p:cNvPicPr/>
          <p:nvPr/>
        </p:nvPicPr>
        <p:blipFill>
          <a:blip r:embed="rId2"/>
          <a:stretch/>
        </p:blipFill>
        <p:spPr>
          <a:xfrm>
            <a:off x="1643040" y="1214280"/>
            <a:ext cx="5923080" cy="428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Çıkan bağlantıyı tıklayarak sistem tarafından otomatik olarak üretilen “Word” dosyasını bilgisayarınıza indirip, şablon üzerinde gerekli değişiklikleri bilgisayarınız üzerinde yapınız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Önemli: Şablon dosyasını nereye kaydettiğinize dikkat ediniz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Devam Et” düğmesine basarak bir sonraki adıma geçiniz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7200" y="3809520"/>
            <a:ext cx="822960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Dosya Seç düğmesine basarak hazırladığınız dosyayı sisteme yükleyiniz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2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434880" y="1405080"/>
            <a:ext cx="821376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4 Başlık" descr=""/>
          <p:cNvPicPr/>
          <p:nvPr/>
        </p:nvPicPr>
        <p:blipFill>
          <a:blip r:embed="rId1"/>
          <a:stretch/>
        </p:blipFill>
        <p:spPr>
          <a:xfrm>
            <a:off x="1427040" y="2365200"/>
            <a:ext cx="6448680" cy="1725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Sözleşme Numaranız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Size verilen şif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887720" y="128556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Kullanıcı adı olarak sözleşme numaranızı giriniz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Şifreleriniz size bildirilecekti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Picture 2" descr="C:\Users\halis.yalcinkaya\Downloads\ibs_sunumu\giris.jpg"/>
          <p:cNvPicPr/>
          <p:nvPr/>
        </p:nvPicPr>
        <p:blipFill>
          <a:blip r:embed="rId2"/>
          <a:stretch/>
        </p:blipFill>
        <p:spPr>
          <a:xfrm>
            <a:off x="119160" y="1357200"/>
            <a:ext cx="4738680" cy="3429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9" name="8 Metin kutusu"/>
          <p:cNvSpPr/>
          <p:nvPr/>
        </p:nvSpPr>
        <p:spPr>
          <a:xfrm>
            <a:off x="785880" y="364320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Lucida Sans Unicode"/>
              </a:rPr>
              <a:t>TR63-10-XXX-XX-XXX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Kullanıcı Ayarları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Sağ üst köşed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196920" y="1460520"/>
            <a:ext cx="4300560" cy="36878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Sağ üst köşedeki “Kullanıcı Ayarları” bağlantısına tıklayarak kullanıcı bilgileriniz ile şifrenizi güncelleyebilirsiniz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Ana Sayfa Üzerind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 “</a:t>
            </a: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Faydalanıcının Dolduracağı Raporlar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Faydalanıcının Dolduracağı Raporlar” menüsünde yer alan maddeler faydalanıcı tarafından doldurulacaktı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4303800" y="838080"/>
            <a:ext cx="41464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Sol Menü Üzerind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Sorularım” Bölüm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617400" y="1244520"/>
            <a:ext cx="3816360" cy="349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Sol menü üzerinde “Sorularım” bölümüne tıklayarak sorduğunuz soruların cevaplarını görüntüleyebilir ve yeni soru sorabilirsiniz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Aram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Yeni Soru Sorm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442800" y="1562040"/>
            <a:ext cx="3909960" cy="29084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Arama bölümünü kullanarak arama yapabilirsiniz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Lucida Sans Unicode"/>
              </a:rPr>
              <a:t>Soru sormak içi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Lucida Sans Unicode"/>
              </a:rPr>
              <a:t>1. Kategori seçiniz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Lucida Sans Unicode"/>
              </a:rPr>
              <a:t>2. Konuyu yazınız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Lucida Sans Unicode"/>
              </a:rPr>
              <a:t>3. Soruyu yazıp “Soru Ekle” düğmesine basınız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4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22440" y="3662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464646"/>
                </a:solidFill>
                <a:latin typeface="Lucida Sans Unicode"/>
              </a:rPr>
              <a:t>Cevap geldiğinde uyarır</a:t>
            </a:r>
            <a:br>
              <a:rPr sz="2500"/>
            </a:br>
            <a:r>
              <a:rPr b="0" lang="tr-TR" sz="2500" spc="-1" strike="noStrike">
                <a:solidFill>
                  <a:srgbClr val="464646"/>
                </a:solidFill>
                <a:latin typeface="Lucida Sans Unicode"/>
              </a:rPr>
              <a:t>Diğer kullanıcılarla paylaşı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464646"/>
                </a:solidFill>
                <a:latin typeface="Lucida Sans Unicode"/>
              </a:rPr>
              <a:t>Soruyu listeden kaldırı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96880" y="1717560"/>
            <a:ext cx="7975800" cy="19940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8481960" y="3701880"/>
            <a:ext cx="379440" cy="4003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8555040" y="4154400"/>
            <a:ext cx="287280" cy="354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"/>
          <p:cNvPicPr/>
          <p:nvPr/>
        </p:nvPicPr>
        <p:blipFill>
          <a:blip r:embed="rId4"/>
          <a:stretch/>
        </p:blipFill>
        <p:spPr>
          <a:xfrm>
            <a:off x="8556480" y="4575240"/>
            <a:ext cx="35244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9:46:52Z</dcterms:created>
  <dc:creator>IBRYAPICI</dc:creator>
  <dc:description/>
  <dc:language>en-US</dc:language>
  <cp:lastModifiedBy>Halis YALÇINKAYA</cp:lastModifiedBy>
  <dcterms:modified xsi:type="dcterms:W3CDTF">2011-05-04T12:16:12Z</dcterms:modified>
  <cp:revision>6</cp:revision>
  <dc:subject/>
  <dc:title>Slayt 1</dc:title>
</cp:coreProperties>
</file>